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D54C-9096-4A57-AAE7-CD23985EF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0EE4-2E87-4C2C-95F5-9DB0AA8D5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753E-575E-44EA-9A1C-55AF7A8D7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5E49-E014-40E4-8983-EBDC7170F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BBFD-87FE-4428-9462-B87A592D4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2F2D-8153-4237-BF68-E0027496C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13DA-AEBD-4434-81A5-D121CC036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9B7D-EC86-495E-B9A4-E77FE3D2B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770C-3BD1-41A9-AC13-01D5C0CE5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4120-2CD6-4F85-87A3-6C853771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D22A-BA5E-4C92-A904-C1866DF5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26AD-E137-42E1-B3CF-1922580CC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41BD0-B360-438D-8FBD-1F87A1115F2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50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15:07Z</dcterms:created>
  <dc:creator>Peter Watson</dc:creator>
  <dc:description/>
  <dc:language>en-US</dc:language>
  <cp:lastModifiedBy>Peter Watson</cp:lastModifiedBy>
  <dcterms:modified xsi:type="dcterms:W3CDTF">2010-10-04T14:15:07Z</dcterms:modified>
  <cp:revision>1</cp:revision>
  <dc:subject/>
  <dc:title>Slide 1</dc:title>
</cp:coreProperties>
</file>